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022-66F3-4F16-84D9-B4ABD986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6EA-12DC-4358-9157-AE36E647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7AE-110D-465D-820A-4B22EC73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845D-2F21-45D3-A57A-4C29B8DF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DF30-3F23-4008-8C0B-4A8FE005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7782-BADD-4171-9F65-E6D0F81F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7B99-4369-4B5F-B893-CED020A4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2BD1-A19E-40F1-BC20-B0E4189A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2227-42FD-4F41-8256-AF2C9F7D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35BC-FA44-4A4F-A094-523144A7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F5F4-88AD-4F9D-9888-7E514F78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466-E465-40B7-B556-787EDCD6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FE3A-7E2E-445B-8AB0-982C5F5C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A1A8-0AE8-44FA-8D90-4BC1936F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4BE0-F97D-4EB1-BBF0-A7ADA112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C3D9-2310-41A7-8652-37472187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BB2A-CBFA-4C6C-8A52-9D6D36A9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05EE1-EA70-4C98-9EA0-65838076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365A-B211-453A-B7D8-2FA29D85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7D1CE-3393-4566-8019-4A05DBE2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8F7F8-1206-449E-84F9-81E03D8E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23CA-CA6B-4DCA-8A47-CD4ECE6F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A4D-999C-42D6-864C-BB0BB1B1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B6217-EA1A-4070-AC21-867C4F6C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BE38E-4453-4C0E-9B51-D5844EFB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99BBA-ADAC-473B-A6D4-3F8FD97C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794D5-FB39-4752-81CF-13AA5BA6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C53B9-2D7E-49C8-A9B2-73AAEC4E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338A1-C262-4C1A-9E84-7790E702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CEBF7-A035-4D2A-9DEA-C757F94E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F8B14-EDAE-4B0F-9B93-0D9DDDD8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EFB14-0F36-48B8-B2E3-F68F45BF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5A2E8-4C97-493E-A0C0-AB5F97A5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C0D-5673-45F5-8960-F4F73832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FE32E-6B17-451C-9AAC-9826D3CB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25741-0687-42E5-9722-922C1D1C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05E12-DA1B-4E38-9045-3FC118B2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78802-5E85-4363-AC1B-06AD4719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0060-59CA-4BBB-8353-E864D1FB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9A67A-9B86-4761-8D56-2F24C277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0E8B4-8962-473D-B196-983F78C3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B75BE-88CC-4747-92BE-4DE5483F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14684-F91A-4F9A-9E8A-7E0A9353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D6A8A-3E52-42B0-A3A2-F3516B8C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D7F-97A4-46CB-8469-E3BC3A1B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15972-3E08-4823-A8F8-B9F6269A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BF98A-9E07-4103-AD78-5F3DBFC8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BC060-F26B-4C62-8163-05DA8D99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7778B-FF51-4E31-80B5-C19947E4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E14DC-4546-4A37-953A-C73039D1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77DE8-9421-4EB7-B4E8-46BCA421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26D55-B91E-4833-990A-C307A13A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2D248-C7BB-43FA-836B-06DC7113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68CA9-4EFD-4CD8-884D-51C98BE1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6D355-D931-4303-A6AB-1EB511BD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DC7-21C9-4623-95AA-6073DC18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3196F-9667-453E-A138-A0DBED28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B8A3A-0BAC-459B-8533-DB9B6DEA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0AB1E-C364-4885-9F17-3F7D976C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F7965-A6D4-4310-8A00-CDCE4768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2AD2F-E8D7-4741-BA7B-C7E2C730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CACFE-69A2-4628-8905-3B030BC5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69F6B-FE38-401C-8F76-E71B2E9B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D9C76-1652-452D-9E0C-995339B2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1806C-DF99-4DFF-A5A8-14A96D08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5208A-F619-49B1-B3CC-42222127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9EF6-1613-4C6F-8603-CDC26DAF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2D2E2-1709-4701-86B0-6BA21445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979EF-94A0-4C00-9144-E1DD86DE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93796-5A62-46C8-B6A2-AC445923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61F-BA9F-4550-9125-1EE4BE6C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F9E-8270-4AE6-89FF-7DF2CA57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1C31-A307-45D2-A53A-3E5F09A6F23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37C2-E52A-4CEA-934A-25F9CDA791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2B1E-4F4C-425B-B730-747B08FCA78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EE2A-CDDE-4CD1-A200-286D842237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6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6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8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87CA-EB38-471B-BB4F-6B69A81229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5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5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7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6BDA-F8CF-4D4E-B401-6F2A46A8E24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Тема проект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06080" y="3733560"/>
            <a:ext cx="66373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ебное за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2000160" y="50720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ководитель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блемный вопрос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Цел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Ход исслед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спользуемые материалы и интернет-ссыл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Your_Dream</cp:lastModifiedBy>
  <dcterms:modified xsi:type="dcterms:W3CDTF">2009-12-06T13:20:12Z</dcterms:modified>
  <cp:revision>62</cp:revision>
  <dc:subject/>
  <dc:title>Слайд 1</dc:title>
</cp:coreProperties>
</file>